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929-4945-4604-91DC-F7DB9538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E6A-C704-47D3-A0D0-EC258D4A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511-4C5A-4850-8620-B9BA66CF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732-D0D7-4650-BB70-F0A70F27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EABF-D627-4623-A517-65594AAB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95F-C30C-496E-A21E-0A953193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85F-23B4-4F5F-9E0E-E014133A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A30-6AC8-4AD7-BABA-4417B385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6C8-4B68-4E45-B059-9FDBB924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079-FE49-43D5-B92C-E463EF21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F9E-DAA4-4545-A245-BDD59CF5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D056-48BA-495D-BB7F-EE6FC3E6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25F2-0944-4089-BC6E-19D9D9D58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SA/ MRO ESB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AND TREAT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B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TINI BAHARUDIN ICN 2/2008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doni MT"/>
              </a:rPr>
              <a:t>Protective b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Glove, mask &amp; disposable plastic ap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Recommended to use 3 ply @ N95 m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Bodoni MT"/>
              </a:rPr>
              <a:t>Patient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Bodoni MT"/>
              </a:rPr>
              <a:t>Limit the mov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Bodoni MT"/>
              </a:rPr>
              <a:t>transport of the patient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Bodoni MT"/>
              </a:rPr>
              <a:t>from the room to essential purposes only. minimize patient dispersal of droplet nuclei by placing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surgical mask  on the patient if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324480" y="1981080"/>
            <a:ext cx="2514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doni MT"/>
              </a:rPr>
              <a:t>Patient-Car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Handle used patient-care equipment soiled with blood, body fluids, secretions, and excretions in a manner that prevents skin and mucous membrane exposures, contamination of clothing, and transfer of microorganisms to other patients and environ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- Ensure that reusable equipment is not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for the care of another patient until it has been cleaned and reprocessed appropr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- Single used item discarde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Reduce ICU length of st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Early discharge if possible provided no medical C/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Use NIPPV instead of IPPV if possible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  <a:ea typeface="Arial"/>
              </a:rPr>
              <a:t>→↓ nosocomial 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Bodoni MT"/>
              </a:rPr>
              <a:t>Avoidance of bio film bu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Bodoni MT"/>
              </a:rPr>
              <a:t>Eg : ETT, branula, urinary c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Bodoni MT"/>
              </a:rPr>
              <a:t>To be remove ASAP if not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Bodoni MT"/>
              </a:rPr>
              <a:t>If needed/long term use</a:t>
            </a:r>
            <a:r>
              <a:rPr b="0" lang="en-MY" sz="3200" spc="-1" strike="noStrike">
                <a:solidFill>
                  <a:srgbClr val="000000"/>
                </a:solidFill>
                <a:latin typeface="Bodoni MT"/>
                <a:ea typeface="Arial"/>
              </a:rPr>
              <a:t>→antimicrobial coated IV bran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doni MT"/>
              </a:rPr>
              <a:t>Infection specific protocol &amp;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↑ 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compliance as everybody must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Antibiotic 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Formal protocol &amp; guidelines / hospital formulary rest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antibiotic practice guidelines – to avoid unnecessary antibiotic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restricted use of specific antibi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Combination antibiotic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Antibiotic cycling &amp; scheduled antibiotic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Shorten course of antibiotic 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664200"/>
            <a:ext cx="82296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71600" y="1828800"/>
            <a:ext cx="6248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 YOU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304920"/>
          <a:ext cx="8229600" cy="9078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B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an isolatic of the bacterium staphylococcus aureus that has acquired genes encoding antibiotic resistance to all penicillins including methicillin and other narrow;spectrum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lactamas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defined as microorganism, predominantly bacteria that are resistant to 2 or 3 classes of anti mjcrobial agents.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and symptoms of MRO are similar to most infec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bacteria enzymes (often gram neg bacilli) that hydrolyse and resistance to many classes of antimicrobial. Eg:penicillin, carbapenems, cephalosporins, aminoglycosides and fluoroquinolon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57200" y="685800"/>
          <a:ext cx="8229600" cy="8205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B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ca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taphylococcus aureus is a common bacteria that normally lives on the skin and sometimes in the nasal passag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when bacteria encounter an antibiotic such as methicillin,some of the bacteria may surviv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longe stay in icu and hos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rolonge multiple use of antibio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resence of serious underlying disease.Eg:chest infection,S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pen skin wound (surgical or chron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ious use of antibio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underlying disease (chronic renal failure, malignancy, D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rolonged hospitaliza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533520"/>
          <a:ext cx="8229600" cy="9348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B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bacteria are able to change, so those bacteria that survive may develop a resistance to the antibiot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" y="685800"/>
          <a:ext cx="8229600" cy="8815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B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sm invol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taphylococcus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ethicillin resistant staphylococcus aureus (MRS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ancomycine resistant enterococci (VR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SB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klebsiella pneum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cinetobacter s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.c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klebsiella pneum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nterobacter aeroge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. cloac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itrobacter freun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seudomonas aerugino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erratia marcescen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685800"/>
          <a:ext cx="8229600" cy="8586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B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jority of severe MRSA infection are treated with two or more iv antibiotics, that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Glycopeptide antibio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ancomycine and teicoplan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linezolid, daptomycin, tigecycline are used to tre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ancomyc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hloramphenic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zyv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rifampic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rimetoprin /sufamethoxazole (alternative to vancomyc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arbapen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ntapen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eropen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forapen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mipen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685800"/>
          <a:ext cx="8229600" cy="8282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B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severe infection that do not respond to the glycopeptid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Can be treated with oral agen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rifampicin, clindamycin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Place the patient in a private room that h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1) monitored negative air pressure in relation to   the surrounding area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2) Keep the room door closed and the patient in the room. If a private room is not available, place the patient in a room with a patient who has active infection with the same microorganism but with no other infection (unless otherwise recommend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3) Personaliz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4) Restrict visitor 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  <a:ea typeface="Arial"/>
              </a:rPr>
              <a:t>→ education to vis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7631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doni MT"/>
                <a:ea typeface="Arial"/>
              </a:rPr>
              <a:t>Hand 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  <a:ea typeface="Arial"/>
              </a:rPr>
              <a:t>-  single most important →effective infec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  <a:ea typeface="Arial"/>
              </a:rPr>
              <a:t>Hand rub / alcohol rub →↑ compli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  <a:ea typeface="Arial"/>
              </a:rPr>
              <a:t>( unless hands are visibly soiled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86400" y="3733920"/>
            <a:ext cx="3276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2:49:39Z</dcterms:created>
  <dc:creator>shahrulnizam</dc:creator>
  <dc:description/>
  <dc:language>en-US</dc:language>
  <cp:lastModifiedBy>shahrulnizam</cp:lastModifiedBy>
  <dcterms:modified xsi:type="dcterms:W3CDTF">2008-12-11T14:41:51Z</dcterms:modified>
  <cp:revision>3</cp:revision>
  <dc:subject/>
  <dc:title>MRSA/ MRO ESBL</dc:title>
</cp:coreProperties>
</file>